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2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9B2-A51E-4424-AA58-31E59A6C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6B4-F9A1-4846-B600-EC0E4DDF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2E1-6AE8-4587-A796-B0F4BD79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D3F-4DC5-42A0-99DD-50F5A9DA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EF3-D237-4CA0-ADDE-D55ED01F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0EEA-B910-4AEE-A081-D49DF6CA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91F-691C-4946-94CD-D1B2D39D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96CE-F00F-4FCB-8478-7D52C8E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A6C5-69A2-45DE-AFA6-3BD2685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A57-AA41-4195-922C-C8300CB3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8B2-57EA-4006-978E-FFC779BF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27FF-80BA-4B9A-88F4-9BA22DC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E5C5-CED3-4E51-9F5C-AE5FD8D0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2BE0-097C-4BA1-8F6D-A6380F5F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2CDC-A36D-4324-B693-E22EAB91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7EC-D7EE-4983-B46E-F98A587F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2E87-F6A1-4324-B668-B9A4467B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A90-B979-4E9D-B2CC-3129396D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B56-5ADE-4357-BA56-7BACF96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485-2BE8-4545-B496-729DC987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98B-A549-4355-9AFA-BC2C06FF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7E6-52BE-4995-8FA5-FF86694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D08-1A61-4AF3-825E-6DC763A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02E-E604-4296-8860-A178B6D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73CF-6B4A-4078-89CC-3A00450ACD8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C764-A909-4E69-9F2E-35ACC0FA316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ry Of A Wimpy Kid The Ugly Tr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ten By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Kin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Alex Ra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819520" cy="3505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2819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19280" y="1904760"/>
            <a:ext cx="3924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g: nervous and laz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wley:is very child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:is bos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m:sometimes 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rick:he is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495680" cy="3772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7920" y="601992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media.photobucke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71320" y="1981080"/>
            <a:ext cx="3925800" cy="3810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6520" y="1981080"/>
            <a:ext cx="3926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’s 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le Gary’s w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mie’s 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60958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 is dealing with the pressures of big parties, increased responsibilities, and awkward changes without his best friend Rowl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32440" y="0"/>
            <a:ext cx="2311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st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5867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g has lost his best friend Rowley because they got into an argument. Now he’s looking for a new best friend, but the only two best options are Christopher Brownfield, and Tyson San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nd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5867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ny is the flower boy and Greg is the assistant flower boy for uncle Gary’s w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81080" y="609480"/>
            <a:ext cx="430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’s me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4800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get good grades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say sorry if you did something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thor’s Bibli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76160" y="121932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Rodrick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The Last Str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Dog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 Of A Wimpy Kid The Ugly Tru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1739880" cy="2057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429000" y="4800600"/>
            <a:ext cx="175248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81480" y="480060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934320" y="480060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14240" y="3808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 Ci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057040" y="1904760"/>
            <a:ext cx="3924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blibrary.blogspo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oriumbooks.com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oksvariety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g-international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ry-of-a-wimpy-kid.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46:08Z</dcterms:created>
  <dc:creator>D83  User</dc:creator>
  <dc:description/>
  <dc:language>en-US</dc:language>
  <cp:lastModifiedBy>D83  User</cp:lastModifiedBy>
  <dcterms:modified xsi:type="dcterms:W3CDTF">2010-12-03T16:31:21Z</dcterms:modified>
  <cp:revision>6</cp:revision>
  <dc:subject/>
  <dc:title>Diary of a wimpy kid the ugly truth</dc:title>
</cp:coreProperties>
</file>